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A82-38D2-4FDB-98E5-FAA8A9C8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3B0-F62E-4187-9402-F31DC5B1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83EEA-556D-480A-8862-425EBAB5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187F3-FDF9-41EB-9540-7BF0B75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115F0-51C6-4B1C-BAA6-894BB5EC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89C66-A789-4A41-9B4A-439020A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3C488-0F8E-46D2-B9BF-67B85DBE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DAEEF-CEF4-4F23-9308-6E9B13FE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9369C-CB93-4E21-BCA5-38CF23D7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875A3-5789-483D-92F0-00F61E48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52B33-EF15-4B80-B225-BCA3E745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0017C-9B71-4815-84BC-9A3D11DE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E1A-BB36-407A-A93F-90430E7A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576F3-CCBD-4F1D-AB46-F9ED9232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6230A-55BC-4A60-9BA4-95B0E181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55922-3F17-4E42-8B57-95411FF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11D9F-8C1A-4486-89D4-07ABD9A5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3A73B-E37A-4989-B38E-9989C078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500A0-3349-4B48-8577-E527A4E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745A8-7464-41C5-AA02-4144A325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9EE67-4AE3-4FFB-A83F-8EE9392D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F66E8-2643-437F-B6FA-27BD083D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53C4E-3083-4F48-AE07-EFEEB142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E9B-6012-40F5-A75D-056DB2B8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28F19-4B45-49E5-89B2-3A44260C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13286-737D-41B7-8D10-C913A12A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A3D0C-BADC-4EC2-AC92-D1D37703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5400D-C5E2-44A7-A284-B1BA463D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5D9D4-328B-45E3-B265-B1649585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9674F-81F5-4D9E-B476-81DAA1FC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2B213-6309-4FFC-9F49-C41F82E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B1496-C67A-45F6-9563-3018FC6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FAE90-9297-44DA-BE4D-2EDFDEA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68AF9-3D30-4897-852E-515B7C5E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FA4C-C06B-49A1-A5D8-25B33DDF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5C13D-4631-46B1-9DC6-F25CF0CD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6F28D-EAAF-4E95-8F4C-61B6A8BD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4DDBC-88FE-4417-8295-AB5881D6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72882-0AED-47EF-B7BC-65271B52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B311F-3104-42FB-AF87-4F61E2D5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46CDE-9F31-4EC3-99DD-61765A11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D8BF1-6574-4714-AAB4-E0C8AD66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F6F55-306C-45C3-B1CD-4B6E1EB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1C8F5-04E8-4498-BCB4-9F24D35C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CE91E-4762-4323-B324-F66130B8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8729-F2F8-4EC1-A59A-9F820DD3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F019B-1CA6-4C51-92E6-0514F8C8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F5F09-D3BF-4362-B823-5F9B3560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CDE91-487A-4C0D-ACF8-07D8A3A4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58A94-70CC-45C5-926A-68D5B5ED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45093-BFD3-499B-B777-031D0E70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FBACC-9C24-4F14-BECB-9D27DFC5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DE82F-1A84-4EE6-9951-436C6E80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63859-2485-47DE-BA5B-1353BBF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A3E6E-57AB-4F4E-86CC-4D4B9700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7E854-9F13-4748-A310-0EF19890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F634-75B2-49F0-84DC-C14AC85C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0232A-A94C-4E06-AFBD-C590C49A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1AFD7-BCFF-447B-854A-D724B170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2AEB7-3753-47B3-8F57-C05D0EA1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263D5-5117-4239-B025-7809B264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FC1E1-B72C-4462-A9C6-24E6A991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5007A-5667-414D-BDA4-73703C17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22E8E-7E31-483A-8E01-9A29066F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A4A22-5312-4010-A538-25E01382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288B2-D6A8-41E7-B07A-BBBA8E30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A8CFD-DC2F-4322-9EE6-3129129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F7D2-8E02-4302-AAB9-F42DAC74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E7D54-5FA1-43BC-87A6-896C9CF0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CFEA8-3CCB-457E-972F-596C38DE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F7DAE-D858-46F7-87D3-79D56597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6ABA1-1D25-4A66-8304-94B86242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AD2EE-00CB-4516-AE5C-86EAEACD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A7D68-C231-432D-A7DF-E6A6B2B6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771FA-1E89-453C-B4D9-B061DA7B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E4565-885B-4746-819F-87AC08A8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6D1F1-6B66-4395-8352-A8317463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27C937-CC68-4F78-AB0B-14AE659A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4B9-6FB6-4D92-834A-0AC9DE8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C1BB4-D44A-4ECD-A2C2-6C0574DA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EBB94-4E43-4F59-BEC9-31376A6E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5AC42-0121-4A73-9FFF-149B6CCC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791EA-0872-4AEB-948E-2326DE08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40854-4ACA-4CAA-8653-DA63655F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7A821-189D-4EFF-8E1C-287DE60C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4136A-8FFF-469D-88A1-65C519C0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41618-927D-4760-B11B-7C70F6DA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506A7-115D-4B66-8578-7C45C508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1CC9C-3FC8-4C72-A104-2452492B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0E0D-0ADB-4FA1-B27A-E7463B45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E114A-BF3B-483B-9DCA-689293D9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E1C76-078E-4CCA-B2C7-811BF46D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3653C-3744-46F0-A7DD-4D59D9EA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D863C-993F-4E3D-98CB-EFDF127E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93B39-42CF-4048-80F2-CF35A4F0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33C98-347D-4723-8A74-9240D546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D0164-683A-4D76-BB65-DFEA123E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D79A8-AD2D-4339-96DA-28F19CFA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23C11-EA9B-4D38-9349-E183728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E74816-427E-401E-B83E-E73CC2C9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8092-C5B9-4716-A387-EC5256FA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6FD13A-5316-4DF0-B4BB-A4AE9585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E9DDB-7C9C-4E4C-AA55-8A4F5814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B83E5-AA24-4669-A886-0FEEBE57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0B75E-3810-4450-A420-A452B050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5D01D-2B1C-4177-B98D-6F132334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5513D-EE16-433C-AE8D-C5EB69C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6378C-1268-43B1-9F34-ABC513BB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C609B-8373-4282-A195-82B01126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3F224-E217-488C-9B55-A6ACA3C0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67352-2C35-4796-999C-19031F72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499-819C-412C-BF1E-7663C7FE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AD44-34F4-4E3C-A70D-D15FA7C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89106D-11A2-4C34-9A2D-F920E165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C00F6-82B7-4831-A45D-9B1ABB28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2146E-48D1-44D9-A04D-FECD726E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7DBBA-F60B-49A6-9278-7126672D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43A30-E9FE-4664-B633-06870582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AA4B5B-6475-4ECC-8517-847101ED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016AB6-C6AB-46CF-9ABC-079183EE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6FD95-23C7-4749-87EC-3D65488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FE5BF-BC4C-4684-A8FC-EDC47E4D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2C514-C637-4BBE-90F3-52E2B7E8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FF2D-F464-459E-90E8-7BA4015A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C07942-EEBD-4F74-9A24-E40011EC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BCA4E-A9B2-4152-B21E-2DF5FAF1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8AEDD-DCB9-47E6-8F66-369D8AC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E0291-CAC6-4304-8EDE-7A3E753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F50E5-D480-47C0-8BCC-FD49772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5D8DE-1BC3-4C01-8487-D469C2B1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1DD13-649F-401D-A8E7-2F9BA371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DAC16-3FF5-4B6D-BFE6-36BCB7E9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048E4F-07B2-40DE-9328-A6B241A3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0BD871-F8EF-4705-B896-C6F12EC0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D51D-A48A-4130-9706-5FF036C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3E324-56F5-4C58-A455-9D8F9340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FFB69-4A47-43A2-940E-7B9618A7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C982A-037A-470C-9544-C51F8AD3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D8697-9A46-48EB-A8F4-C814A3D3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6C049-708D-4098-8DE1-066A92E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0BEBD-5A9E-4BBE-8AA3-804E8A2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51FC2-2DD3-4959-9C35-5FDE3E61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BE194D-A4FD-4BF9-9C27-B48AB3AF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A52061-9536-428B-8B15-2BB24782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22A31-32D6-417B-9D3C-9D524634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9502-E51E-4D3B-B4A9-BE2CBBEE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F5481-602E-497B-9535-F36AEA45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18292-43A6-496B-A9F8-3A71F71C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3FC60-609E-45D3-9BE9-20BF0DC7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92FB4-5228-4989-B3C2-2D58A456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F28C2-403C-4170-A061-96F67C84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DEFAA-9A91-4ECE-BC52-CB02B6E9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47CB5-7C50-4E32-83AF-0E3CB5F6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DBC71F-5D29-4AB6-8814-8F4AFBD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8B022-1C7F-4645-B7B1-892708AB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8101A-F823-4C0A-BD3A-3B1BB931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EC9B-4D1F-492C-B328-952B492B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6AFCA-6AAB-4D51-B626-48B2C340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D55B28-50A6-4535-B89E-9036E361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B30F3A-5119-4F0F-AB81-331147FF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1CA069-D8E1-45B7-8A6E-E0932A51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C276F-4754-4C29-B678-77CACD99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1F227F-8449-4CDB-8382-3623572B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7C5E8B-E36A-4834-B10E-E1C3308B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69E22-06D8-44C3-80F8-9016024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B85D0-4A59-4A3C-A7C7-A18F08B8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6EA5B-19E8-464A-AAEF-BA30471B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29CF-098A-4620-8FEB-C08CFFDD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812B1-C8F0-4930-A8EE-B26410F9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DC7F00-6BFA-4E3B-A0C1-8B0078D7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CA42F0-7B72-4792-96C2-076E9D67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3C09-F0F8-4EA7-A61C-359B7C6A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750F-9443-4D52-A18E-C6A646B1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F58D-B51F-452D-BCE9-86551357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45C3-BEBE-4CAE-834F-F6E06A5B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398-B8C6-4EA4-B62B-B95FFADF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0471-EB16-4239-B242-E6D14B15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BE8E-A4BD-4041-AD00-CCF28DD6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EE34-A3CE-4054-B506-46DCB8A3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CE31-14FA-46F2-B19D-D14C3DE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1680-3409-4903-88DF-1731547E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8B69-38B5-4B74-A0E4-075C16C6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47C0-CDDF-46EF-9E49-59036D34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347B2-45C7-46C1-909C-880F755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72F8-B18E-404C-B2B4-8F886239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A9F75-701F-4AAF-B45D-6490E31D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905-C69D-4AD6-8934-C56285C6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6E9C-EB2F-4554-B0B2-4F9DF7D6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3EA0-A2D0-4E91-91CE-FDF8BA55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BE396-718D-4E72-9414-CB02B115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24AC-B93D-4EF3-B5B9-AD226CDC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F66A-EC4E-4779-AE76-94C603B5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DF5DB-E5C3-4C9D-B62A-D4A40CFD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B125F-12FB-41EE-9289-5B85B1F2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A4790-9E8B-4EF2-92CA-E0CEC374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A2832-25AF-4441-9C22-EDEBF459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8C731-F69A-4535-8B6F-B1EC234A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7AB-C30F-4E89-8DE4-71F4B13D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6C8A7-4E47-428B-B30E-2914FFD8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5DD2B-A5AC-4B57-9D4F-AF8EF4F4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AEEB2-EE35-4769-853A-8CCDFE00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94663-6212-406B-AFEA-24A7F7AB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6AC5-0158-4ACE-B208-A628F4E2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A3252-C99B-41CC-8DF6-C3908B6E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C57A-66F5-4BAE-9808-5F8CBDA4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5C9B1-8943-43E7-8428-5871D606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BDE83-E138-4D5E-BA56-F27935DB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9593F-0323-4A83-B9D6-B0A2E884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BD4-7BF6-4AF3-842D-4FA3C5FC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82DB6-D1DE-46AB-A013-02EF9BEA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CD85B-9ED5-4DAA-A034-B20FCB49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0B1F6-8985-42D2-8385-69877912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606FA-DA9E-40C2-A824-063DA35C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3FE60-C90B-4B9A-BC2C-F8026D2A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9C9F9-5362-4C0A-BA6C-6B6C3985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9BAE-92E6-4766-8113-F94285A4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EAFEE-06FF-440C-8CBC-0AB25A4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AF88-35D4-4C0E-8DF1-11226528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83192-093C-4BFE-87BB-CA57A15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479-A7C2-46F6-ACD4-E88C5EC6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FB96D-68E5-4267-844F-0836763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71F60-19C5-496B-B729-C666947D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DBDDA-E6F4-498A-8815-A7BA032B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87FE-09FB-4C9B-ADA7-3B72060A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4CD17-4893-4DCA-821D-F1A5C85B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E4C4A-042D-4E6A-84B0-493F67E2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D336B-886B-4330-9814-B9BE2DD6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C541C-21F5-4CB0-8752-3A1ED700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D0474-AFF2-4902-A336-C6724EA2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A2256-B0D2-41AD-968B-66E50FBF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36F-0E8C-4673-98EC-78079BD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25330-4272-4231-8212-C581B6F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92A4C-1170-41B0-AAAD-A8634DB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F4C87-3FE3-4517-8C08-D51A3D8A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E2AD5-3A7F-4368-B76E-BED06D5B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6E02A-FAF2-448A-AF4D-9A498DA9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8D33E-E186-49EA-9AC6-914CD355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BAB36-6A7C-45E5-98E9-9D7E85FE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D04F-3F51-4120-9A89-C1C6CD0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DFE9B-F3CC-4E3C-9E35-CC47A760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2220-9F2E-4550-B0F4-7927DB27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89D-DD36-49CF-8A97-B0DC071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9E6E4-70DB-4A45-BA10-AB0593D9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25DC6-5277-4E07-AE3D-FCDFC30B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F3AEB-35DC-436D-A478-ED98861E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02CE3-942D-4E44-A2A4-B94AEBC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1F5D-58B5-42AC-B1FC-182467C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26860-9859-4F84-9BBB-E3CED04B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EB8B3-E071-4AC1-95B9-806A3B28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EFECD-6D87-487B-B0CF-72DD48D2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78C0A-B7B7-4E18-9A78-97C3DE02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EB3B6-96DB-4AF9-BD6C-EC324ECC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BB07-BED1-4EB6-B417-44BC2D287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8F75-6215-40B5-9736-861012816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82D6-F954-4A60-9764-5A1AAE681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15CE-99BC-4EA1-83D6-D71B3DF0A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A0B8-467C-4E52-B22D-1E9C2CE0C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7559-2117-4982-AD76-82F706F1B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20EF-8083-4DDF-866F-0AE9DD550C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C89B-1EEE-4A43-8556-08B10D392B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E28C-4706-45F0-9645-34F85B8E16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EA5C-4662-4B21-B208-294B8A7983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FE8F-1483-41BB-9589-225FCB60F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D7ED-0774-4211-90EE-5586B9BD83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229E-84C1-4BFB-A1D9-03F9B91718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25E4-B0E1-43DF-9A37-5186DEADED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A9A-8349-4406-8DB3-3082CDA56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7138-36E2-41C1-9081-53515A844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E3D4-A8E5-4F0A-BF6E-79AA66F385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91D6-49E1-4AB5-8609-95FDB04BB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7430-6F42-4F03-A01C-6211CAAF94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5795-FAA7-4330-8977-F27935D0E6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524D-46CF-476E-BF23-9641176D08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90AC-C723-4920-838D-9F8D3B128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765-B3C9-439B-ABDA-F976FCCFF7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332E-359D-4D5F-A24C-E2C73F12AA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CC2-438D-4E01-8F80-547AF97FA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E512-D900-4665-A101-46C9A1CBFC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CDB-4581-49FD-B664-5F613D96BC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9BD-2C76-43DE-8CA1-A1175E9685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390D-92EF-485C-B27F-1618655DE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7DB7-C574-4434-BB61-EE76FE78FC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0192-A046-42D8-86B2-A8B691056E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AD76-F43C-4A42-B217-6B4FF24F3F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22F5-4BBF-421B-B4E5-67C808CF41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8EA1-A76F-450D-8C6D-67B6BEE1F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49BD-C336-496A-956D-F33EDC874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658C-5C65-433D-AB22-4FCE3FB6F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84CC-92DF-4EF1-BC5A-C7FED91D7B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759C-C68F-4FDF-9126-ACAE8A73B8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5E6B-A188-4118-94AE-9BF7AB41DF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CAB1-5850-4F55-B42C-3B35A37B0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80" descr=""/>
          <p:cNvPicPr/>
          <p:nvPr/>
        </p:nvPicPr>
        <p:blipFill>
          <a:blip r:embed="rId1"/>
          <a:stretch/>
        </p:blipFill>
        <p:spPr>
          <a:xfrm>
            <a:off x="1328760" y="2843280"/>
            <a:ext cx="64864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162000" y="380880"/>
            <a:ext cx="8820000" cy="60962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5435640" y="4105440"/>
            <a:ext cx="2952720" cy="331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1116000" y="4681440"/>
            <a:ext cx="2952720" cy="9082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1042920" y="5618160"/>
            <a:ext cx="57610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8609" descr=""/>
          <p:cNvPicPr/>
          <p:nvPr/>
        </p:nvPicPr>
        <p:blipFill>
          <a:blip r:embed="rId1"/>
          <a:stretch/>
        </p:blipFill>
        <p:spPr>
          <a:xfrm>
            <a:off x="614520" y="1919160"/>
            <a:ext cx="7914960" cy="3019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5219640" y="2478240"/>
            <a:ext cx="3168720" cy="4982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3168720" cy="8650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755640" y="4033800"/>
            <a:ext cx="6121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7585" descr=""/>
          <p:cNvPicPr/>
          <p:nvPr/>
        </p:nvPicPr>
        <p:blipFill>
          <a:blip r:embed="rId1"/>
          <a:stretch/>
        </p:blipFill>
        <p:spPr>
          <a:xfrm>
            <a:off x="314280" y="1414440"/>
            <a:ext cx="8515440" cy="40291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3002040" y="229068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559560" y="227664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3174840" y="328464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732720" y="325584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3635280" y="501336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3635280" y="4451400"/>
            <a:ext cx="576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66561" descr=""/>
          <p:cNvPicPr/>
          <p:nvPr/>
        </p:nvPicPr>
        <p:blipFill>
          <a:blip r:embed="rId1"/>
          <a:stretch/>
        </p:blipFill>
        <p:spPr>
          <a:xfrm>
            <a:off x="666720" y="1052640"/>
            <a:ext cx="7810560" cy="222876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6562" descr=""/>
          <p:cNvPicPr/>
          <p:nvPr/>
        </p:nvPicPr>
        <p:blipFill>
          <a:blip r:embed="rId2"/>
          <a:stretch/>
        </p:blipFill>
        <p:spPr>
          <a:xfrm>
            <a:off x="1019160" y="3517920"/>
            <a:ext cx="7105680" cy="21430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4068720" y="1628640"/>
            <a:ext cx="863640" cy="498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7596360" y="1557360"/>
            <a:ext cx="863280" cy="498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4427640" y="227664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6"/>
          <a:stretch/>
        </p:blipFill>
        <p:spPr>
          <a:xfrm>
            <a:off x="7596360" y="2276640"/>
            <a:ext cx="863280" cy="4982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7"/>
          <a:stretch/>
        </p:blipFill>
        <p:spPr>
          <a:xfrm>
            <a:off x="3203640" y="400536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8"/>
          <a:stretch/>
        </p:blipFill>
        <p:spPr>
          <a:xfrm>
            <a:off x="7451640" y="4005360"/>
            <a:ext cx="863640" cy="4982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9"/>
          <a:stretch/>
        </p:blipFill>
        <p:spPr>
          <a:xfrm>
            <a:off x="2828880" y="4653000"/>
            <a:ext cx="863640" cy="4986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0"/>
          <a:stretch/>
        </p:blipFill>
        <p:spPr>
          <a:xfrm>
            <a:off x="7078680" y="4724280"/>
            <a:ext cx="8636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9" descr=""/>
          <p:cNvPicPr/>
          <p:nvPr/>
        </p:nvPicPr>
        <p:blipFill>
          <a:blip r:embed="rId1"/>
          <a:stretch/>
        </p:blipFill>
        <p:spPr>
          <a:xfrm>
            <a:off x="309600" y="866880"/>
            <a:ext cx="8524800" cy="5124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783560" y="5559480"/>
            <a:ext cx="431640" cy="372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769160" y="5084640"/>
            <a:ext cx="43200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1" descr=""/>
          <p:cNvPicPr/>
          <p:nvPr/>
        </p:nvPicPr>
        <p:blipFill>
          <a:blip r:embed="rId1"/>
          <a:stretch/>
        </p:blipFill>
        <p:spPr>
          <a:xfrm>
            <a:off x="700200" y="928800"/>
            <a:ext cx="7743600" cy="5000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529080" cy="934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539640" y="2622600"/>
            <a:ext cx="5761080" cy="934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1908000" y="479736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3132000" y="5329080"/>
            <a:ext cx="576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281160" y="1114560"/>
            <a:ext cx="8581680" cy="46288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3456000" cy="498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900000" y="3875040"/>
            <a:ext cx="3456000" cy="498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900000" y="4522680"/>
            <a:ext cx="3456000" cy="498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43214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3" descr=""/>
          <p:cNvPicPr/>
          <p:nvPr/>
        </p:nvPicPr>
        <p:blipFill>
          <a:blip r:embed="rId1"/>
          <a:stretch/>
        </p:blipFill>
        <p:spPr>
          <a:xfrm>
            <a:off x="285840" y="1400040"/>
            <a:ext cx="8572320" cy="4057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3708360" y="3241800"/>
            <a:ext cx="2087640" cy="1728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258920" y="3471840"/>
            <a:ext cx="3168720" cy="8938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116000" y="4522680"/>
            <a:ext cx="6912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1042920" y="1976400"/>
            <a:ext cx="7058160" cy="29052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3708360" y="2550960"/>
            <a:ext cx="2303640" cy="142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490760" y="2751120"/>
            <a:ext cx="2590560" cy="8938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1403280" y="3817800"/>
            <a:ext cx="66247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662040" y="1728720"/>
            <a:ext cx="7819920" cy="3400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4643280" y="2305080"/>
            <a:ext cx="2233800" cy="331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116000" y="3068640"/>
            <a:ext cx="3168720" cy="936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1116000" y="4105440"/>
            <a:ext cx="69850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290520" y="1643040"/>
            <a:ext cx="8562960" cy="3571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258920" y="3343320"/>
            <a:ext cx="3529080" cy="8776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73436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757080" y="1700280"/>
            <a:ext cx="7629840" cy="345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258920" y="2190600"/>
            <a:ext cx="7129440" cy="498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84360" y="2722680"/>
            <a:ext cx="7129440" cy="850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611280" y="3687840"/>
            <a:ext cx="7129440" cy="850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611280" y="4595760"/>
            <a:ext cx="71294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10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